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8E0E-BEFB-456D-B2F0-3A2E2815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4145-B625-4CA7-B02C-6C6040FE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DABD-1094-4E21-A250-02FD6E1E1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AAD4-05B6-4262-88F4-1705C2639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313D-F48D-4881-8D44-25442817F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DC45-6323-40CF-B666-C8CDFAA2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368C-91DD-4D74-BAE5-20EE5914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7579-2A1A-4092-8B84-28B5B8DC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D265-E9BB-494B-97BA-4FCCAD49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4F21-6468-48D2-8D7F-1547B44F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7914-965A-44D1-BDCA-16CA7E1C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A2EA-1D22-4198-93A7-25A516AC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F791-ABFF-4AEE-9385-F918C57E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93B5-648D-4371-9F4F-14C0B37A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1401-BA01-4825-9A91-D032DA9E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CFBA-7FBD-426A-A8FC-D78F13DD9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52EF-CF26-414C-959F-A61D6F238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6257-41BB-45BC-BA3F-5DBF618E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5C26-6A67-4464-AE4E-F151902E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44F4-AC83-4404-AF65-01A8792B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38FF-4E30-4B65-BF91-C3544934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0A95-CE90-4CE8-8F17-0A6D357B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1066-7B9E-429D-A5E2-D01EBF04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8D99-1D5D-4BF8-8634-98F30A0D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7315200" y="5510160"/>
            <a:ext cx="1828800" cy="1347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C41B-D696-4EC7-A556-7667C95EC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440" y="2967120"/>
            <a:ext cx="802656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47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D7DF-F059-4E59-9092-C359B462B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5640" y="914400"/>
            <a:ext cx="6095880" cy="16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GMOD: System Architecture &amp; Integration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May 2003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Lincoln Stein, CSH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2133720" cy="1573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How do we Federate?</a:t>
            </a:r>
            <a:br>
              <a:rPr sz="4000"/>
            </a:b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Adaptors</a:t>
            </a:r>
            <a:endParaRPr b="0" lang="en-US" sz="4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7056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isuali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819520" y="5361120"/>
            <a:ext cx="1317600" cy="810720"/>
            <a:chOff x="2819520" y="5361120"/>
            <a:chExt cx="1317600" cy="810720"/>
          </a:xfrm>
        </p:grpSpPr>
        <p:sp>
          <p:nvSpPr>
            <p:cNvPr id="305" name=""/>
            <p:cNvSpPr/>
            <p:nvPr/>
          </p:nvSpPr>
          <p:spPr>
            <a:xfrm>
              <a:off x="2819520" y="576720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19520" y="563220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819520" y="549576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19520" y="536112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624672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Qu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5235480" y="5361120"/>
            <a:ext cx="1317600" cy="810720"/>
            <a:chOff x="5235480" y="5361120"/>
            <a:chExt cx="1317600" cy="810720"/>
          </a:xfrm>
        </p:grpSpPr>
        <p:sp>
          <p:nvSpPr>
            <p:cNvPr id="311" name=""/>
            <p:cNvSpPr/>
            <p:nvPr/>
          </p:nvSpPr>
          <p:spPr>
            <a:xfrm>
              <a:off x="5235480" y="5767200"/>
              <a:ext cx="1317600" cy="40464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35480" y="5632200"/>
              <a:ext cx="1317600" cy="40464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35480" y="5495760"/>
              <a:ext cx="1317600" cy="40608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35480" y="5361120"/>
              <a:ext cx="1317600" cy="40608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258912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u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1296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d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05320" y="4419720"/>
            <a:ext cx="0" cy="86508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59360" y="4419720"/>
            <a:ext cx="0" cy="83808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2055960" y="2666520"/>
            <a:ext cx="76176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05120" y="3657600"/>
            <a:ext cx="2590560" cy="685800"/>
          </a:xfrm>
          <a:prstGeom prst="rect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Red Adap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351240" y="2666520"/>
            <a:ext cx="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332320" y="2666520"/>
            <a:ext cx="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553080" y="2666520"/>
            <a:ext cx="22860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24280" y="3657600"/>
            <a:ext cx="2590920" cy="685800"/>
          </a:xfrm>
          <a:prstGeom prst="rect">
            <a:avLst/>
          </a:prstGeom>
          <a:solidFill>
            <a:srgbClr val="f5a23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an Adap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How do we Federate?</a:t>
            </a:r>
            <a:br>
              <a:rPr sz="4000"/>
            </a:b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Xchange Format</a:t>
            </a:r>
            <a:endParaRPr b="0" lang="en-US" sz="4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7056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isuali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2819520" y="5361120"/>
            <a:ext cx="1317600" cy="810720"/>
            <a:chOff x="2819520" y="5361120"/>
            <a:chExt cx="1317600" cy="810720"/>
          </a:xfrm>
        </p:grpSpPr>
        <p:sp>
          <p:nvSpPr>
            <p:cNvPr id="328" name=""/>
            <p:cNvSpPr/>
            <p:nvPr/>
          </p:nvSpPr>
          <p:spPr>
            <a:xfrm>
              <a:off x="2819520" y="576720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819520" y="563220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49576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819520" y="536112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624672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Qu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5235480" y="5361120"/>
            <a:ext cx="1317600" cy="810720"/>
            <a:chOff x="5235480" y="5361120"/>
            <a:chExt cx="1317600" cy="810720"/>
          </a:xfrm>
        </p:grpSpPr>
        <p:sp>
          <p:nvSpPr>
            <p:cNvPr id="334" name=""/>
            <p:cNvSpPr/>
            <p:nvPr/>
          </p:nvSpPr>
          <p:spPr>
            <a:xfrm>
              <a:off x="5235480" y="5767200"/>
              <a:ext cx="1317600" cy="40464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235480" y="5632200"/>
              <a:ext cx="1317600" cy="40464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235480" y="5495760"/>
              <a:ext cx="1317600" cy="40608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35480" y="5361120"/>
              <a:ext cx="1317600" cy="40608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258912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u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1296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d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505320" y="4419720"/>
            <a:ext cx="0" cy="86508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859360" y="4419720"/>
            <a:ext cx="0" cy="83808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2055960" y="2666520"/>
            <a:ext cx="76176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351240" y="2666520"/>
            <a:ext cx="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332320" y="2666520"/>
            <a:ext cx="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6553080" y="2666520"/>
            <a:ext cx="22860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90920" y="3581280"/>
            <a:ext cx="3886200" cy="6858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Beige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How do we Federate?</a:t>
            </a:r>
            <a:br>
              <a:rPr sz="4000"/>
            </a:b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Service Architecture</a:t>
            </a:r>
            <a:endParaRPr b="0" lang="en-US" sz="4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7056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isuali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819520" y="5361120"/>
            <a:ext cx="1317600" cy="810720"/>
            <a:chOff x="2819520" y="5361120"/>
            <a:chExt cx="1317600" cy="810720"/>
          </a:xfrm>
        </p:grpSpPr>
        <p:sp>
          <p:nvSpPr>
            <p:cNvPr id="350" name=""/>
            <p:cNvSpPr/>
            <p:nvPr/>
          </p:nvSpPr>
          <p:spPr>
            <a:xfrm>
              <a:off x="2819520" y="576720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819520" y="563220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19520" y="549576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19520" y="536112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4" name=""/>
          <p:cNvSpPr/>
          <p:nvPr/>
        </p:nvSpPr>
        <p:spPr>
          <a:xfrm>
            <a:off x="624672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Qu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5235480" y="5361120"/>
            <a:ext cx="1317600" cy="810720"/>
            <a:chOff x="5235480" y="5361120"/>
            <a:chExt cx="1317600" cy="810720"/>
          </a:xfrm>
        </p:grpSpPr>
        <p:sp>
          <p:nvSpPr>
            <p:cNvPr id="356" name=""/>
            <p:cNvSpPr/>
            <p:nvPr/>
          </p:nvSpPr>
          <p:spPr>
            <a:xfrm>
              <a:off x="5235480" y="5767200"/>
              <a:ext cx="1317600" cy="40464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235480" y="5632200"/>
              <a:ext cx="1317600" cy="40464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235480" y="5495760"/>
              <a:ext cx="1317600" cy="40608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235480" y="5361120"/>
              <a:ext cx="1317600" cy="40608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258912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u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91296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d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3505320" y="4343400"/>
            <a:ext cx="457200" cy="91440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638680" y="4343400"/>
            <a:ext cx="220680" cy="9144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2133360" y="2590920"/>
            <a:ext cx="2971800" cy="83808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2057400" y="2666520"/>
            <a:ext cx="1752480" cy="7621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200400" y="3581280"/>
            <a:ext cx="1371600" cy="6858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Get Bei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800600" y="3581280"/>
            <a:ext cx="1371600" cy="6858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Put Bei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267080" y="4343400"/>
            <a:ext cx="1440000" cy="91440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3657240" y="4343400"/>
            <a:ext cx="1600200" cy="9144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3962520" y="2590920"/>
            <a:ext cx="1371600" cy="83808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3657600" y="2666520"/>
            <a:ext cx="380880" cy="7621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4267080" y="2742840"/>
            <a:ext cx="762120" cy="6858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4495680" y="2666520"/>
            <a:ext cx="2057400" cy="7621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Issues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User installation &amp; integration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ocumentation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irectory structur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onfiguration fil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veloper extensibility &amp; maintainability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ow do the modules interact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User installation &amp; integration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Packaging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pendencies, updates, version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README &amp; HOWTO files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Site-specific vs common configuration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Predictable directory structure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User support: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Bug tracking &amp; feature request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Times New Roman"/>
              </a:rPr>
              <a:t>How do the Modules Interact?</a:t>
            </a:r>
            <a:endParaRPr b="0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69000" y="5665680"/>
            <a:ext cx="1449360" cy="8114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isuali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988320" y="3760920"/>
            <a:ext cx="1317600" cy="810720"/>
            <a:chOff x="6988320" y="3760920"/>
            <a:chExt cx="1317600" cy="810720"/>
          </a:xfrm>
        </p:grpSpPr>
        <p:sp>
          <p:nvSpPr>
            <p:cNvPr id="94" name=""/>
            <p:cNvSpPr/>
            <p:nvPr/>
          </p:nvSpPr>
          <p:spPr>
            <a:xfrm>
              <a:off x="6988320" y="416700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988320" y="403200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988320" y="389556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988320" y="376092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371600" y="3352680"/>
            <a:ext cx="917280" cy="1429920"/>
            <a:chOff x="1371600" y="3352680"/>
            <a:chExt cx="917280" cy="1429920"/>
          </a:xfrm>
        </p:grpSpPr>
        <p:sp>
          <p:nvSpPr>
            <p:cNvPr id="99" name=""/>
            <p:cNvSpPr/>
            <p:nvPr/>
          </p:nvSpPr>
          <p:spPr>
            <a:xfrm>
              <a:off x="1371600" y="3352680"/>
              <a:ext cx="917280" cy="14299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78520" y="3591720"/>
              <a:ext cx="681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464840" y="4014000"/>
              <a:ext cx="318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87840" y="4014000"/>
              <a:ext cx="318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454800" y="2236680"/>
            <a:ext cx="1449360" cy="8114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Qu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025800" y="2313000"/>
            <a:ext cx="1317600" cy="810720"/>
            <a:chOff x="3025800" y="2313000"/>
            <a:chExt cx="1317600" cy="810720"/>
          </a:xfrm>
        </p:grpSpPr>
        <p:sp>
          <p:nvSpPr>
            <p:cNvPr id="105" name=""/>
            <p:cNvSpPr/>
            <p:nvPr/>
          </p:nvSpPr>
          <p:spPr>
            <a:xfrm>
              <a:off x="3025800" y="271908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25800" y="258408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025800" y="244764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25800" y="231300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559320" y="4827600"/>
            <a:ext cx="1317600" cy="810720"/>
            <a:chOff x="3559320" y="4827600"/>
            <a:chExt cx="1317600" cy="810720"/>
          </a:xfrm>
        </p:grpSpPr>
        <p:sp>
          <p:nvSpPr>
            <p:cNvPr id="110" name=""/>
            <p:cNvSpPr/>
            <p:nvPr/>
          </p:nvSpPr>
          <p:spPr>
            <a:xfrm>
              <a:off x="3559320" y="523368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59320" y="5098680"/>
              <a:ext cx="131760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59320" y="496224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59320" y="4827600"/>
              <a:ext cx="131760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968400" y="536112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u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49680" y="34560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d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438280" y="4038480"/>
            <a:ext cx="1958760" cy="1008360"/>
            <a:chOff x="2438280" y="4038480"/>
            <a:chExt cx="1958760" cy="1008360"/>
          </a:xfrm>
        </p:grpSpPr>
        <p:sp>
          <p:nvSpPr>
            <p:cNvPr id="117" name=""/>
            <p:cNvSpPr/>
            <p:nvPr/>
          </p:nvSpPr>
          <p:spPr>
            <a:xfrm>
              <a:off x="2438280" y="4079520"/>
              <a:ext cx="1958760" cy="95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124440" y="4038480"/>
              <a:ext cx="511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d57a0b"/>
                  </a:solidFill>
                  <a:latin typeface="Century Schoolbook"/>
                </a:rPr>
                <a:t>?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 flipH="1">
            <a:off x="2263320" y="5078520"/>
            <a:ext cx="1219320" cy="40788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355840" y="4903920"/>
            <a:ext cx="696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57a0b"/>
                </a:solidFill>
                <a:latin typeface="Century Schoolbook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49880" y="3983040"/>
            <a:ext cx="685800" cy="16020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49880" y="3075120"/>
            <a:ext cx="67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57a0b"/>
                </a:solidFill>
                <a:latin typeface="Century Schoolbook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006520" y="4522680"/>
            <a:ext cx="1219320" cy="1008360"/>
            <a:chOff x="5006520" y="4522680"/>
            <a:chExt cx="1219320" cy="1008360"/>
          </a:xfrm>
        </p:grpSpPr>
        <p:sp>
          <p:nvSpPr>
            <p:cNvPr id="124" name=""/>
            <p:cNvSpPr/>
            <p:nvPr/>
          </p:nvSpPr>
          <p:spPr>
            <a:xfrm flipH="1">
              <a:off x="5006520" y="4697280"/>
              <a:ext cx="1219320" cy="407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5437440" y="4522680"/>
              <a:ext cx="696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d57a0b"/>
                  </a:solidFill>
                  <a:latin typeface="Century Schoolbook"/>
                </a:rPr>
                <a:t>?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 flipH="1">
            <a:off x="6759720" y="4675320"/>
            <a:ext cx="838080" cy="81900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857280" y="4675320"/>
            <a:ext cx="65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57a0b"/>
                </a:solidFill>
                <a:latin typeface="Century Schoolbook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549320" y="2617920"/>
            <a:ext cx="175284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161680" y="1752480"/>
            <a:ext cx="100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57a0b"/>
                </a:solidFill>
                <a:latin typeface="Century Schoolbook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92880" y="3151080"/>
            <a:ext cx="152640" cy="53352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07160" y="2922480"/>
            <a:ext cx="67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57a0b"/>
                </a:solidFill>
                <a:latin typeface="Century Schoolbook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514600" y="2770200"/>
            <a:ext cx="434880" cy="73512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669400" y="2895480"/>
            <a:ext cx="100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57a0b"/>
                </a:solidFill>
                <a:latin typeface="Century Schoolbook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6320" y="1552680"/>
            <a:ext cx="1828800" cy="17240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62120" y="1600200"/>
            <a:ext cx="7772400" cy="4876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562720" y="2590920"/>
            <a:ext cx="259056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1294920" y="2590920"/>
            <a:ext cx="259092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001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lly Integrated MOD Application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743360" y="3392280"/>
            <a:ext cx="0" cy="1757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84560" y="4203720"/>
            <a:ext cx="1317600" cy="404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84560" y="4068720"/>
            <a:ext cx="1317600" cy="40500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84560" y="3932280"/>
            <a:ext cx="1317600" cy="4064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84560" y="3797280"/>
            <a:ext cx="1317600" cy="4064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284720" y="1905120"/>
            <a:ext cx="917280" cy="1429920"/>
            <a:chOff x="4284720" y="1905120"/>
            <a:chExt cx="917280" cy="1429920"/>
          </a:xfrm>
        </p:grpSpPr>
        <p:sp>
          <p:nvSpPr>
            <p:cNvPr id="145" name=""/>
            <p:cNvSpPr/>
            <p:nvPr/>
          </p:nvSpPr>
          <p:spPr>
            <a:xfrm>
              <a:off x="4284720" y="1905120"/>
              <a:ext cx="917280" cy="14299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91640" y="2144160"/>
              <a:ext cx="681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77960" y="2566440"/>
              <a:ext cx="318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00960" y="2566440"/>
              <a:ext cx="318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38280" y="5284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19400" y="5284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00880" y="5284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624120" y="4743360"/>
            <a:ext cx="658800" cy="54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5204880" y="4743360"/>
            <a:ext cx="659160" cy="54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27432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5880" y="27432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90720" y="2133720"/>
            <a:ext cx="1752480" cy="4572000"/>
          </a:xfrm>
          <a:prstGeom prst="rect">
            <a:avLst/>
          </a:prstGeom>
          <a:noFill/>
          <a:ln w="1260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001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Vertical Toolki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866960" y="3773160"/>
            <a:ext cx="0" cy="1757160"/>
          </a:xfrm>
          <a:prstGeom prst="line">
            <a:avLst/>
          </a:prstGeom>
          <a:ln w="38160">
            <a:solidFill>
              <a:srgbClr val="0000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08160" y="4584600"/>
            <a:ext cx="1317600" cy="40500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08160" y="4449600"/>
            <a:ext cx="1317600" cy="40500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08160" y="4313160"/>
            <a:ext cx="1317600" cy="4064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08160" y="4178160"/>
            <a:ext cx="1317600" cy="4064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407960" y="2286000"/>
            <a:ext cx="917280" cy="1429920"/>
            <a:chOff x="1407960" y="2286000"/>
            <a:chExt cx="917280" cy="1429920"/>
          </a:xfrm>
        </p:grpSpPr>
        <p:sp>
          <p:nvSpPr>
            <p:cNvPr id="164" name=""/>
            <p:cNvSpPr/>
            <p:nvPr/>
          </p:nvSpPr>
          <p:spPr>
            <a:xfrm>
              <a:off x="1407960" y="2286000"/>
              <a:ext cx="917280" cy="14299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14880" y="2525040"/>
              <a:ext cx="68112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01200" y="294732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24200" y="294732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143000" y="5665680"/>
            <a:ext cx="1449360" cy="8114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9880" y="2133720"/>
            <a:ext cx="1752840" cy="4572000"/>
          </a:xfrm>
          <a:prstGeom prst="rect">
            <a:avLst/>
          </a:prstGeom>
          <a:noFill/>
          <a:ln w="1260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686480" y="3773160"/>
            <a:ext cx="0" cy="1757160"/>
          </a:xfrm>
          <a:prstGeom prst="line">
            <a:avLst/>
          </a:prstGeom>
          <a:ln w="38160">
            <a:solidFill>
              <a:srgbClr val="0000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27320" y="4584600"/>
            <a:ext cx="1317960" cy="40500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27320" y="4449600"/>
            <a:ext cx="1317960" cy="40500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027320" y="4313160"/>
            <a:ext cx="1317960" cy="4064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27320" y="4178160"/>
            <a:ext cx="1317960" cy="4064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227480" y="2286000"/>
            <a:ext cx="917280" cy="1429920"/>
            <a:chOff x="4227480" y="2286000"/>
            <a:chExt cx="917280" cy="1429920"/>
          </a:xfrm>
        </p:grpSpPr>
        <p:sp>
          <p:nvSpPr>
            <p:cNvPr id="176" name=""/>
            <p:cNvSpPr/>
            <p:nvPr/>
          </p:nvSpPr>
          <p:spPr>
            <a:xfrm>
              <a:off x="4227480" y="2286000"/>
              <a:ext cx="917280" cy="14299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34400" y="2525040"/>
              <a:ext cx="68112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320720" y="294732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743720" y="294732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3962520" y="5665680"/>
            <a:ext cx="1449360" cy="8114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2133720"/>
            <a:ext cx="1752480" cy="4572000"/>
          </a:xfrm>
          <a:prstGeom prst="rect">
            <a:avLst/>
          </a:prstGeom>
          <a:noFill/>
          <a:ln w="1260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505640" y="3773160"/>
            <a:ext cx="0" cy="1757160"/>
          </a:xfrm>
          <a:prstGeom prst="line">
            <a:avLst/>
          </a:prstGeom>
          <a:ln w="38160">
            <a:solidFill>
              <a:srgbClr val="0000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46840" y="4584600"/>
            <a:ext cx="1317600" cy="40500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46840" y="4449600"/>
            <a:ext cx="1317600" cy="40500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46840" y="4313160"/>
            <a:ext cx="1317600" cy="4064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46840" y="4178160"/>
            <a:ext cx="1317600" cy="4064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047000" y="2286000"/>
            <a:ext cx="917280" cy="1429920"/>
            <a:chOff x="7047000" y="2286000"/>
            <a:chExt cx="917280" cy="1429920"/>
          </a:xfrm>
        </p:grpSpPr>
        <p:sp>
          <p:nvSpPr>
            <p:cNvPr id="188" name=""/>
            <p:cNvSpPr/>
            <p:nvPr/>
          </p:nvSpPr>
          <p:spPr>
            <a:xfrm>
              <a:off x="7047000" y="2286000"/>
              <a:ext cx="917280" cy="14299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153920" y="2525040"/>
              <a:ext cx="68112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40240" y="294732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63240" y="294732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6781680" y="5665680"/>
            <a:ext cx="1449360" cy="8114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0200" y="1709640"/>
            <a:ext cx="197604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Genome Mo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82720" y="1714680"/>
            <a:ext cx="241632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tock Center Mo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14840" y="1714680"/>
            <a:ext cx="211932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Literature Mo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 flipH="1" flipV="1">
            <a:off x="1828440" y="2971800"/>
            <a:ext cx="1143000" cy="1905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4190760" y="4266720"/>
            <a:ext cx="1066680" cy="6858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001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Federated Toolkit</a:t>
            </a:r>
            <a:endParaRPr b="0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00480" y="3352680"/>
            <a:ext cx="1449360" cy="8114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isuali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233440" y="5029200"/>
            <a:ext cx="1317960" cy="810720"/>
            <a:chOff x="2233440" y="5029200"/>
            <a:chExt cx="1317960" cy="810720"/>
          </a:xfrm>
        </p:grpSpPr>
        <p:sp>
          <p:nvSpPr>
            <p:cNvPr id="201" name=""/>
            <p:cNvSpPr/>
            <p:nvPr/>
          </p:nvSpPr>
          <p:spPr>
            <a:xfrm>
              <a:off x="2233440" y="5435280"/>
              <a:ext cx="131796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33440" y="5300280"/>
              <a:ext cx="1317960" cy="4046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33440" y="5163840"/>
              <a:ext cx="131796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233440" y="5029200"/>
              <a:ext cx="1317960" cy="40608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4724280" y="1371600"/>
            <a:ext cx="917280" cy="1429920"/>
            <a:chOff x="4724280" y="1371600"/>
            <a:chExt cx="917280" cy="1429920"/>
          </a:xfrm>
        </p:grpSpPr>
        <p:sp>
          <p:nvSpPr>
            <p:cNvPr id="206" name=""/>
            <p:cNvSpPr/>
            <p:nvPr/>
          </p:nvSpPr>
          <p:spPr>
            <a:xfrm>
              <a:off x="4724280" y="1371600"/>
              <a:ext cx="917280" cy="14299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831200" y="1610640"/>
              <a:ext cx="68112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17520" y="203292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40520" y="203292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662440" y="3352680"/>
            <a:ext cx="1449720" cy="8114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Qu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010280" y="5958000"/>
            <a:ext cx="146700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Genome D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50160" y="5958000"/>
            <a:ext cx="190728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tock Center D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19600" y="5958000"/>
            <a:ext cx="161028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Literature D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633920" y="5029200"/>
            <a:ext cx="1317600" cy="810720"/>
            <a:chOff x="4633920" y="5029200"/>
            <a:chExt cx="1317600" cy="810720"/>
          </a:xfrm>
        </p:grpSpPr>
        <p:sp>
          <p:nvSpPr>
            <p:cNvPr id="215" name=""/>
            <p:cNvSpPr/>
            <p:nvPr/>
          </p:nvSpPr>
          <p:spPr>
            <a:xfrm>
              <a:off x="4633920" y="5435280"/>
              <a:ext cx="1317600" cy="404640"/>
            </a:xfrm>
            <a:prstGeom prst="ellipse">
              <a:avLst/>
            </a:prstGeom>
            <a:solidFill>
              <a:srgbClr val="f1c58b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633920" y="5300280"/>
              <a:ext cx="1317600" cy="404640"/>
            </a:xfrm>
            <a:prstGeom prst="ellipse">
              <a:avLst/>
            </a:prstGeom>
            <a:solidFill>
              <a:srgbClr val="f1c58b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33920" y="5163840"/>
              <a:ext cx="1317600" cy="406080"/>
            </a:xfrm>
            <a:prstGeom prst="ellipse">
              <a:avLst/>
            </a:prstGeom>
            <a:solidFill>
              <a:srgbClr val="f1c58b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33920" y="5029200"/>
              <a:ext cx="1317600" cy="406080"/>
            </a:xfrm>
            <a:prstGeom prst="ellipse">
              <a:avLst/>
            </a:prstGeom>
            <a:solidFill>
              <a:srgbClr val="f1c58b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7034040" y="5029200"/>
            <a:ext cx="1317960" cy="810720"/>
            <a:chOff x="7034040" y="5029200"/>
            <a:chExt cx="1317960" cy="810720"/>
          </a:xfrm>
        </p:grpSpPr>
        <p:sp>
          <p:nvSpPr>
            <p:cNvPr id="220" name=""/>
            <p:cNvSpPr/>
            <p:nvPr/>
          </p:nvSpPr>
          <p:spPr>
            <a:xfrm>
              <a:off x="7034040" y="5435280"/>
              <a:ext cx="1317960" cy="404640"/>
            </a:xfrm>
            <a:prstGeom prst="ellipse">
              <a:avLst/>
            </a:prstGeom>
            <a:solidFill>
              <a:srgbClr val="d57a0b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34040" y="5300280"/>
              <a:ext cx="1317960" cy="404640"/>
            </a:xfrm>
            <a:prstGeom prst="ellipse">
              <a:avLst/>
            </a:prstGeom>
            <a:solidFill>
              <a:srgbClr val="d57a0b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34040" y="5163840"/>
              <a:ext cx="1317960" cy="406080"/>
            </a:xfrm>
            <a:prstGeom prst="ellipse">
              <a:avLst/>
            </a:prstGeom>
            <a:solidFill>
              <a:srgbClr val="d57a0b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34040" y="5029200"/>
              <a:ext cx="1317960" cy="406080"/>
            </a:xfrm>
            <a:prstGeom prst="ellipse">
              <a:avLst/>
            </a:prstGeom>
            <a:solidFill>
              <a:srgbClr val="d57a0b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57200" y="2209680"/>
            <a:ext cx="1449360" cy="8114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u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327672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d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1523880" y="4038480"/>
            <a:ext cx="990720" cy="91440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3428640" y="4191120"/>
            <a:ext cx="2514600" cy="68580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5562720" y="4191120"/>
            <a:ext cx="838080" cy="76176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05720" y="4191120"/>
            <a:ext cx="685800" cy="68580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4724280" y="4038480"/>
            <a:ext cx="2286000" cy="9907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5334120" y="2895480"/>
            <a:ext cx="457200" cy="4572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572000" y="2895480"/>
            <a:ext cx="457200" cy="4572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124080" y="4267080"/>
            <a:ext cx="533520" cy="6098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001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How do we Federate?</a:t>
            </a:r>
            <a:br>
              <a:rPr sz="4000"/>
            </a:b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URL Link Integration</a:t>
            </a:r>
            <a:endParaRPr b="0" lang="en-US" sz="4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90720" y="3657600"/>
            <a:ext cx="1752480" cy="3200400"/>
          </a:xfrm>
          <a:prstGeom prst="rect">
            <a:avLst/>
          </a:prstGeom>
          <a:noFill/>
          <a:ln w="1260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866960" y="4755960"/>
            <a:ext cx="0" cy="1260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08160" y="5337000"/>
            <a:ext cx="1317600" cy="290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08160" y="5240160"/>
            <a:ext cx="1317600" cy="290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08160" y="5143680"/>
            <a:ext cx="1317600" cy="290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08160" y="5046840"/>
            <a:ext cx="1317600" cy="290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407960" y="3689280"/>
            <a:ext cx="917280" cy="1025280"/>
            <a:chOff x="1407960" y="3689280"/>
            <a:chExt cx="917280" cy="1025280"/>
          </a:xfrm>
        </p:grpSpPr>
        <p:sp>
          <p:nvSpPr>
            <p:cNvPr id="242" name=""/>
            <p:cNvSpPr/>
            <p:nvPr/>
          </p:nvSpPr>
          <p:spPr>
            <a:xfrm>
              <a:off x="1407960" y="3689280"/>
              <a:ext cx="917280" cy="102528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14880" y="3860640"/>
              <a:ext cx="68112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01200" y="416340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24200" y="416340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1143000" y="6111720"/>
            <a:ext cx="1449360" cy="5828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9880" y="3657600"/>
            <a:ext cx="1752840" cy="3200400"/>
          </a:xfrm>
          <a:prstGeom prst="rect">
            <a:avLst/>
          </a:prstGeom>
          <a:noFill/>
          <a:ln w="1260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686480" y="4755960"/>
            <a:ext cx="0" cy="1260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27320" y="5337000"/>
            <a:ext cx="1317960" cy="290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027320" y="5240160"/>
            <a:ext cx="1317960" cy="290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27320" y="5143680"/>
            <a:ext cx="1317960" cy="290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27320" y="5046840"/>
            <a:ext cx="1317960" cy="290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4227480" y="3689280"/>
            <a:ext cx="917280" cy="1025280"/>
            <a:chOff x="4227480" y="3689280"/>
            <a:chExt cx="917280" cy="1025280"/>
          </a:xfrm>
        </p:grpSpPr>
        <p:sp>
          <p:nvSpPr>
            <p:cNvPr id="254" name=""/>
            <p:cNvSpPr/>
            <p:nvPr/>
          </p:nvSpPr>
          <p:spPr>
            <a:xfrm>
              <a:off x="4227480" y="3689280"/>
              <a:ext cx="917280" cy="102528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334400" y="3860640"/>
              <a:ext cx="68112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20720" y="416340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743720" y="416340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962520" y="6111720"/>
            <a:ext cx="1449360" cy="5828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629400" y="3657600"/>
            <a:ext cx="1752480" cy="3200400"/>
          </a:xfrm>
          <a:prstGeom prst="rect">
            <a:avLst/>
          </a:prstGeom>
          <a:noFill/>
          <a:ln w="1260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7505640" y="4755960"/>
            <a:ext cx="0" cy="1260360"/>
          </a:xfrm>
          <a:prstGeom prst="line">
            <a:avLst/>
          </a:prstGeom>
          <a:ln w="38160">
            <a:solidFill>
              <a:srgbClr val="0000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46840" y="5337000"/>
            <a:ext cx="1317600" cy="290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46840" y="5240160"/>
            <a:ext cx="1317600" cy="290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46840" y="5143680"/>
            <a:ext cx="1317600" cy="290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46840" y="5046840"/>
            <a:ext cx="1317600" cy="290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7047000" y="3689280"/>
            <a:ext cx="917280" cy="1025280"/>
            <a:chOff x="7047000" y="3689280"/>
            <a:chExt cx="917280" cy="1025280"/>
          </a:xfrm>
        </p:grpSpPr>
        <p:sp>
          <p:nvSpPr>
            <p:cNvPr id="266" name=""/>
            <p:cNvSpPr/>
            <p:nvPr/>
          </p:nvSpPr>
          <p:spPr>
            <a:xfrm>
              <a:off x="7047000" y="3689280"/>
              <a:ext cx="917280" cy="102528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b1b16a"/>
                </a:gs>
              </a:gsLst>
              <a:lin ang="8100000"/>
            </a:gra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153920" y="3860640"/>
              <a:ext cx="68112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140240" y="416340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63240" y="4163400"/>
              <a:ext cx="3186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6781680" y="6111720"/>
            <a:ext cx="1449360" cy="58284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90200" y="3200400"/>
            <a:ext cx="197604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Genome Mo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82720" y="3203640"/>
            <a:ext cx="241632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tock Center Mo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14840" y="3203640"/>
            <a:ext cx="2119320" cy="36828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Literature Modu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14600" y="4127400"/>
            <a:ext cx="1523880" cy="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34120" y="4127400"/>
            <a:ext cx="1523880" cy="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Cloud"/>
          <p:cNvSpPr/>
          <p:nvPr/>
        </p:nvSpPr>
        <p:spPr>
          <a:xfrm>
            <a:off x="2209680" y="1219320"/>
            <a:ext cx="4419720" cy="1523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URL 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83920" y="2827440"/>
            <a:ext cx="237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http://mydb/genome.cg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31600" y="2819520"/>
            <a:ext cx="212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http://mydb/stock.cg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557760" y="2811600"/>
            <a:ext cx="18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</a:rPr>
              <a:t>http://mydb/lit.cg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How do we Federate?</a:t>
            </a:r>
            <a:br>
              <a:rPr sz="4000"/>
            </a:b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Common Data Model &amp; API</a:t>
            </a:r>
            <a:endParaRPr b="0" lang="en-US" sz="4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4196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Visuali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122640" y="5208480"/>
            <a:ext cx="1317600" cy="811440"/>
            <a:chOff x="3122640" y="5208480"/>
            <a:chExt cx="1317600" cy="811440"/>
          </a:xfrm>
        </p:grpSpPr>
        <p:sp>
          <p:nvSpPr>
            <p:cNvPr id="283" name=""/>
            <p:cNvSpPr/>
            <p:nvPr/>
          </p:nvSpPr>
          <p:spPr>
            <a:xfrm>
              <a:off x="3122640" y="5614920"/>
              <a:ext cx="1317600" cy="40500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122640" y="5479920"/>
              <a:ext cx="1317600" cy="40500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122640" y="5343480"/>
              <a:ext cx="1317600" cy="4064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122640" y="5208480"/>
              <a:ext cx="1317600" cy="406440"/>
            </a:xfrm>
            <a:prstGeom prst="ellipse">
              <a:avLst/>
            </a:prstGeom>
            <a:solidFill>
              <a:srgbClr val="ff6633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601812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Qu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089680" y="5208480"/>
            <a:ext cx="1317600" cy="811440"/>
            <a:chOff x="5089680" y="5208480"/>
            <a:chExt cx="1317600" cy="811440"/>
          </a:xfrm>
        </p:grpSpPr>
        <p:sp>
          <p:nvSpPr>
            <p:cNvPr id="289" name=""/>
            <p:cNvSpPr/>
            <p:nvPr/>
          </p:nvSpPr>
          <p:spPr>
            <a:xfrm>
              <a:off x="5089680" y="5614920"/>
              <a:ext cx="1317600" cy="40500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89680" y="5479920"/>
              <a:ext cx="1317600" cy="40500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89680" y="5343480"/>
              <a:ext cx="1317600" cy="40644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089680" y="5208480"/>
              <a:ext cx="1317600" cy="406440"/>
            </a:xfrm>
            <a:prstGeom prst="ellipse">
              <a:avLst/>
            </a:prstGeom>
            <a:solidFill>
              <a:srgbClr val="f5a23d"/>
            </a:solidFill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8912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u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12960" y="1828800"/>
            <a:ext cx="1449360" cy="811080"/>
          </a:xfrm>
          <a:prstGeom prst="ellipse">
            <a:avLst/>
          </a:prstGeom>
          <a:solidFill>
            <a:srgbClr val="99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d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440" y="4267080"/>
            <a:ext cx="0" cy="86544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13560" y="4267080"/>
            <a:ext cx="0" cy="83844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 flipV="1">
            <a:off x="2055960" y="2666520"/>
            <a:ext cx="76176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741760" y="3505320"/>
            <a:ext cx="3886200" cy="685800"/>
          </a:xfrm>
          <a:prstGeom prst="rect">
            <a:avLst/>
          </a:prstGeom>
          <a:solidFill>
            <a:srgbClr val="f1c58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ommon Schema/A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3351240" y="2666520"/>
            <a:ext cx="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103720" y="2666520"/>
            <a:ext cx="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6399360" y="2666520"/>
            <a:ext cx="228600" cy="76212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Authorized User</dc:creator>
  <dc:description/>
  <dc:language>en-US</dc:language>
  <cp:lastModifiedBy>Lincoln Stein</cp:lastModifiedBy>
  <cp:lastPrinted>1998-10-28T21:29:29Z</cp:lastPrinted>
  <dcterms:modified xsi:type="dcterms:W3CDTF">2003-05-06T18:12:16Z</dcterms:modified>
  <cp:revision>560</cp:revision>
  <dc:subject/>
  <dc:title>Training</dc:title>
</cp:coreProperties>
</file>